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8F2-046A-472A-B7F7-335D8C43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32D-6BC2-40D3-B216-568C1372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A2C-EC30-421D-831E-ED4917FA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676-C3DC-4342-AAE3-E6712396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5F00-15EB-45AA-A7F3-ECC649F8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E83B-9109-4BEC-AB04-ED1BE0B7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21BF-84A9-457E-B357-F36B6483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1215-F5BA-422A-8526-04FD9D95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B6B0-B8F5-49D8-9F5C-1004B116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518C-A582-447A-A9E1-02F6FAB2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17B7-6D86-43E4-884B-8D0CE2DF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4A4-0A84-4DB2-8D40-AB44FCAF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ACE1-437F-406F-9C1D-2A7E21BC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CFBD-D22E-46E7-A443-1FC471A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7E8D-4B77-4100-B52D-9C9A5842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D8E0-142C-4ABE-A19A-2C9090D3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00E8-F407-4507-8664-BCF7CCC0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345-F035-4BE3-B3BA-B2500891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A75-5FA4-4641-AFA5-561B73BC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37B-2310-4C42-BF8D-3218C636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10E-30E9-4903-AB3A-0DCCBC86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5D7-9581-4823-97DF-173F65B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D3E-16C9-49E5-84F4-5ECA1D87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87B-BE17-49DA-B0B0-C05E659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D142-32AB-496F-BB48-34380F046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4FE6-6D26-40FE-948C-82C2D796B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5400" y="1752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72160" y="17524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00000" y="1752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8280" y="17524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27680" y="2828880"/>
            <a:ext cx="84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ycomb County had recently b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ld that it had nothing to fear but fear it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466280" y="2971800"/>
            <a:ext cx="62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DR’s 1932 inauguration spee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77760" y="2550960"/>
            <a:ext cx="718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heriff hadn’t the heart to put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jail alongside Negroes, so Boo 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ked in the courthouse basem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796560" y="3105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c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2960" y="2828880"/>
            <a:ext cx="87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jury couldn’t possibly be expected to 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m Robinson’s word against the Ewells’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3796560" y="3105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c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348200" y="2828880"/>
            <a:ext cx="644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was the first time I ever walk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way from a f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3123720" y="310500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934560" y="2828880"/>
            <a:ext cx="727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the children react to Atticus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dden identi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988000" y="316872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67840" y="2828880"/>
            <a:ext cx="86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unninghams are country folks, farmer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 crash hit them harde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876960" y="2550960"/>
            <a:ext cx="725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some ways we see Scout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m “part company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123720" y="310500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50400" y="2590920"/>
            <a:ext cx="926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til Jem and Dill excluded me from their plan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only another lady in the neighborhood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a relativel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es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678840" y="300996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rm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717120" y="2550960"/>
            <a:ext cx="804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wasn’t sure what Jem resented mos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I took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mbr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t Mrs. Dubose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ssment of the family’s mental hygie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3808800" y="3105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927720" y="2325600"/>
            <a:ext cx="728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married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citur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an who sp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of his time lying in a hammock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river wondering if his trot-lin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 fu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4101480" y="31050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z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864720" y="2133720"/>
            <a:ext cx="735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a less than satisfactory sour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llia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but she did give Jem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t biscuit-and-butter which he t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half and shared with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3999960" y="31050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e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730600" y="3105000"/>
            <a:ext cx="36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61200" y="227484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it healed, and Jem’s fears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er being able to play football we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uage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he was seld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f-conscious about his inju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3720240" y="310500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isf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780920" y="2828880"/>
            <a:ext cx="61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is Scout different from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m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76840" y="15937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ut already has more education than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mates. Her life is not as hard as thos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classmates, and she has the luxury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ing a professional father who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l-educated. She is interested in learn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her classmates are more concerned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their families survive and where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xt meal will come fr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431280" y="3105000"/>
            <a:ext cx="83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didn’t the Ewells have to go to schoo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29160" y="1523880"/>
            <a:ext cx="878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e truant officer enforced the law, their d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probably go to jail. As bad as thing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 for the Ewell children, they likely w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e been even worse off without their fath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their home life was so unusual,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horities bent the rules for them (such 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nting out of season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101600" y="3105000"/>
            <a:ext cx="65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es Cal have two identiti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50400" y="2274840"/>
            <a:ext cx="922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talks and acts like her black friends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ighbors when she is with them, and she talk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acts more like the white people of Maycomb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she is with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086120" y="282888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Miss Maudie think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dley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992520" y="2550960"/>
            <a:ext cx="715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believes they have the right to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ever they want to do as long 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don’t bother anyone el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935280" y="2828880"/>
            <a:ext cx="72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ead lines in the cities grew long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 in the country grew poor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864720" y="3105000"/>
            <a:ext cx="71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courage according to Attic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762840" y="1905120"/>
            <a:ext cx="780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a different kind of courag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n physical courage like a man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gun—courage is knowing you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at before you start but doing i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way because it is the right thing to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452960" y="2828880"/>
            <a:ext cx="68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ain’t Company, Cal, he’s just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nningha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3961080" y="3105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55560" y="2550960"/>
            <a:ext cx="78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“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sometimes the Bible in the h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one man is worse than a whiske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tle in the hand of—oh, of your father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442320" y="31050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887400" y="2274840"/>
            <a:ext cx="733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never really understand a pers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til you consider things from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int of view … until you climb in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skin and walk around in it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3821760" y="310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169280" y="2828880"/>
            <a:ext cx="68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us Finch is the same in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use as he is on the public street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3442320" y="304812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2613240" y="310500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978840" y="1905120"/>
            <a:ext cx="723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ckingbirds don’t do one thing b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ke music for us to enjoy.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eat up people’s gardens, do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st in corncribs, they don’t do 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 but sing their hearts out for 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’s why it’s a sin to kill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ckingbird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3366360" y="31050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714600" y="2438280"/>
            <a:ext cx="751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inch is a small songbi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the significance of the family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st name.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889560" y="2028960"/>
            <a:ext cx="7364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nch family is vulnerabl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out and Jem will b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cularly vulnerable due 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ir innoce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10040" y="2514600"/>
            <a:ext cx="83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was no hurry, for there w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here to go, nothing to buy and 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ey to buy it with, nothing to se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side the boundaries of Maycomb Coun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505240" y="316872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878400" y="1996920"/>
            <a:ext cx="720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mon would have regarded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otent fury the disturbance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orth and South, as it left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cendants stripped of every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their land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162600" y="310500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ivil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Hannah</cp:lastModifiedBy>
  <dcterms:modified xsi:type="dcterms:W3CDTF">2012-11-06T22:45:35Z</dcterms:modified>
  <cp:revision>25</cp:revision>
  <dc:subject/>
  <dc:title>Jeopardy</dc:title>
</cp:coreProperties>
</file>