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4AF-55C0-43C6-B575-EF187325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213-6478-4F4C-A68B-EB75CC1B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9AC-D060-433E-B4B5-9FDB810D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B81-222F-45DD-90FF-3A260C52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68E1-368D-43EF-9E42-CEB7E4AE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B7A7-5172-4A0D-A3A0-66620A62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5C90-570A-462E-B044-FDFAFE3F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C8E9-390E-43B8-AABF-B93C8AA0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AC00-308A-44E9-92F5-05A86659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69EB-7046-405A-AC1E-6E8D6363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E374-D28D-4C0E-8EAC-10267DE1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F0D-2BBF-4E7A-A971-922986C7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6463-CF77-41F6-9F41-4DD9363F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9FAC-99DE-49F6-B246-C7B6DE1D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0530-2818-4FC3-A5CC-F8319790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E994-A2BB-4503-81E6-FE9FAB21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3715-CA16-4A2F-B4AF-74024A63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2AA-1AB1-4BDD-890A-63B20579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B27-D724-491D-8E65-0BFFFC58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992-9D3A-483C-A906-9574BB32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9F15-A3EA-4B27-B1AD-8EFE55D1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863-5DBD-48F4-BF26-02D0D73B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62F-6FC7-43DC-8294-FB8F22C3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71D-BFFE-4AF6-8C5A-133B9C20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7C1E-CADE-4AA4-93E7-86278D5A5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9E1E-C721-4EDB-A3B4-E26BC907F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5400" y="17524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72160" y="17524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00000" y="17524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8280" y="17524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27680" y="2828880"/>
            <a:ext cx="841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ycomb County had recently b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ld that it had nothing to fear but fear it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466280" y="2971800"/>
            <a:ext cx="62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DR’s 1932 inauguration spee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77760" y="2550960"/>
            <a:ext cx="718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heriff hadn’t the heart to put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jail alongside Negroes, so Boo 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cked in the courthouse basem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796560" y="310500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c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92960" y="2828880"/>
            <a:ext cx="87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jury couldn’t possibly be expected to tak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m Robinson’s word against the Ewells’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3796560" y="310500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c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348200" y="2828880"/>
            <a:ext cx="644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was the first time I ever walk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way from a f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3123720" y="3105000"/>
            <a:ext cx="28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ing of 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934560" y="2828880"/>
            <a:ext cx="727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the children react to Atticus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dden identi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2988000" y="3168720"/>
            <a:ext cx="28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ing of 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267840" y="2828880"/>
            <a:ext cx="86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unninghams are country folks, farmer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 crash hit them harde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876960" y="2550960"/>
            <a:ext cx="725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some ways we see Scout 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m “part company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123720" y="3105000"/>
            <a:ext cx="28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ing of 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50400" y="2590920"/>
            <a:ext cx="926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til Jem and Dill excluded me from their plan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s only another lady in the neighborhood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a relativel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n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res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678840" y="300996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rm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717120" y="2550960"/>
            <a:ext cx="804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wasn’t sure what Jem resented most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I took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mbrag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t Mrs. Dubose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essment of the family’s mental hygie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3808800" y="3105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en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927720" y="2325600"/>
            <a:ext cx="728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married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acitur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an who sp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of his time lying in a hammock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the river wondering if his trot-lin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re fu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4101480" y="310500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z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864720" y="2133720"/>
            <a:ext cx="735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s a less than satisfactory sour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lliati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but she did give Jem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t biscuit-and-butter which he t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half and shared with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3999960" y="310500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ie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730600" y="3105000"/>
            <a:ext cx="36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61200" y="2274840"/>
            <a:ext cx="72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it healed, and Jem’s fears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ver being able to play football we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suage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he was seldo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f-conscious about his inju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3720240" y="310500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isfi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780920" y="2828880"/>
            <a:ext cx="61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is Scout different from 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assma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276840" y="1593720"/>
            <a:ext cx="88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out already has more education than 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assmates. Her life is not as hard as those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classmates, and she has the luxury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ving a professional father who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l-educated. She is interested in learn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her classmates are more concerned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their families survive and where the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xt meal will come fr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431280" y="3105000"/>
            <a:ext cx="83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didn’t the Ewells have to go to schoo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29160" y="1523880"/>
            <a:ext cx="878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he truant officer enforced the law, their da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uld probably go to jail. As bad as thing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re for the Ewell children, they likely woul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ve been even worse off without their fath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cause their home life was so unusual,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uthorities bent the rules for them (such 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nting out of season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101600" y="3105000"/>
            <a:ext cx="65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es Cal have two identiti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50400" y="2274840"/>
            <a:ext cx="9227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talks and acts like her black friends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ighbors when she is with them, and she talk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acts more like the white people of Maycomb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she is with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086120" y="2828880"/>
            <a:ext cx="69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Miss Maudie think of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dley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992520" y="2550960"/>
            <a:ext cx="715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believes they have the right to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ever they want to do as long 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don’t bother anyone el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935280" y="2828880"/>
            <a:ext cx="72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ead lines in the cities grew long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ople in the country grew poor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864720" y="3105000"/>
            <a:ext cx="71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courage according to Attic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762840" y="1905120"/>
            <a:ext cx="780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is a different kind of courag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n physical courage like a man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gun—courage is knowing you 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at before you start but doing i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way because it is the right thing to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452960" y="2828880"/>
            <a:ext cx="681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ain’t Company, Cal, he’s just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nningham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3961080" y="310500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655560" y="2550960"/>
            <a:ext cx="783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“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sometimes the Bible in the h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one man is worse than a whiske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ttle in the hand of—oh, of your father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442320" y="310500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 Maud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887400" y="2274840"/>
            <a:ext cx="733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never really understand a pers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til you consider things from h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int of view … until you climb in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skin and walk around in it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3821760" y="31050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ic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169280" y="2828880"/>
            <a:ext cx="68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icus Finch is the same in h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use as he is on the public streets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3442320" y="304812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 Maud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2613240" y="3105000"/>
            <a:ext cx="41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978840" y="1905120"/>
            <a:ext cx="723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ckingbirds don’t do one thing b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ke music for us to enjoy.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eat up people’s gardens, do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st in corncribs, they don’t do 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g but sing their hearts out for u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t’s why it’s a sin to kill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ckingbird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3366360" y="310500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 Maud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714600" y="2438280"/>
            <a:ext cx="751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finch is a small songbi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lain the significance of the family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st name.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889560" y="2028960"/>
            <a:ext cx="7364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inch family is vulnerable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out and Jem will b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cularly vulnerable due 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ir innoce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410040" y="2514600"/>
            <a:ext cx="83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was no hurry, for there w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where to go, nothing to buy and 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ey to buy it with, nothing to se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tside the boundaries of Maycomb Coun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2505240" y="3168720"/>
            <a:ext cx="41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878400" y="1996920"/>
            <a:ext cx="720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mon would have regarded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otent fury the disturbance betw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orth and South, as it left h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cendants stripped of everyth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their land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3162600" y="310500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ivil W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Hannah</cp:lastModifiedBy>
  <dcterms:modified xsi:type="dcterms:W3CDTF">2012-11-06T22:45:35Z</dcterms:modified>
  <cp:revision>25</cp:revision>
  <dc:subject/>
  <dc:title>Jeopardy</dc:title>
</cp:coreProperties>
</file>