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9D9-084E-401C-B0D4-EFAA224C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45E-27E6-4390-B1E3-C1AD051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1D1-3CF5-4FE1-877D-849FD37A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B61-BB5C-4F63-B4D5-B295B5F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52E9-02BA-4DDA-9259-EFA88E83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CDFF-F32A-4EAA-8756-03B374B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706-8BC9-4DDB-976D-BD84F2C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D74D-4E20-4531-9042-8D24FC3B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5C54-94BF-47B1-8E4B-10DC20E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D5C-C3EC-4358-ABBE-6C3EA52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DE46-014A-42EF-AD07-1B55DA1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D44-FE2A-494A-B447-863A1F13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28E3-E909-405D-A9A4-A0B96BA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92B-450D-4FF6-9E35-821C428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6BF-C28D-4C6C-8C87-0243D6A9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8DBE-04F5-4EDF-B41B-CDFC5C48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317A-F9D3-40C4-B3E3-E5CAA4C0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CF9-5007-47A8-9B0A-F1AC38FC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B15-805D-4163-98B0-3BBBE8E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CCA-70BE-4E57-B116-13422F7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28B-1D43-4EE2-A445-6E4438D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24C-23D5-420D-9EA4-7C20052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73E-7822-40DC-83E6-6AC2BDD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2B4-9176-43D7-A370-5F402F7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4CE-5FA8-4D1D-B278-8AA6245B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0907-C7AF-4C42-85F8-98E8D270B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400" y="175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2160" y="1752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0000" y="1752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27680" y="282888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comb County had recently b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ld that it had nothing to fear but fear it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66280" y="297180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DR’s 1932 inauguration spee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77760" y="2550960"/>
            <a:ext cx="718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riff hadn’t the heart to put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jail alongside Negroes, so Boo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ed in the courthouse ba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960" y="282888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ry couldn’t possibly be expected to 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Robinson’s word against the Ewells’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48200" y="282888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the first time I ever walk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way from a f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34560" y="2828880"/>
            <a:ext cx="72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children react to Atticus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dden identi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988000" y="316872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67840" y="282888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nninghams are country folks, farmer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crash hit them harde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876960" y="255096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some ways we see Scou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m “part compan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50400" y="2590920"/>
            <a:ext cx="92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Jem and Dill excluded me from their plan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only another lady in the neighborh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 relativel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678840" y="30099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17120" y="2550960"/>
            <a:ext cx="804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sn’t sure what Jem resented mos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 took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br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t Mrs. Dubose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of the family’s mental hygie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808800" y="3105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927720" y="2325600"/>
            <a:ext cx="728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marri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ci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an who sp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his time lying in a hammoc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river wondering if his trot-lin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u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101480" y="31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4720" y="2133720"/>
            <a:ext cx="735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a less than satisfactory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li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but she did give Jem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biscuit-and-butter which he t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half and shared with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999960" y="31050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730600" y="310500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61200" y="227484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 healed, and Jem’s fears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being able to play football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ag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he was seld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-conscious about his in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720240" y="3105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is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780920" y="282888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is Scout different from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6840" y="15937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 already has more education tha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. Her life is not as hard as thos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classmates, and she has the luxury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ing a professional father who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l-educated. She is interested in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her classmates are more concern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their families survive and where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xt meal will come fr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31280" y="3105000"/>
            <a:ext cx="83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idn’t the Ewells have to go to scho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29160" y="1523880"/>
            <a:ext cx="878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ruant officer enforced the law, their d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probably go to jail. As bad as thing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or the Ewell children, they likely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been even worse off without their fa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ir home life was so unusual,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ies bent the rules for them (such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nting out of season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101600" y="3105000"/>
            <a:ext cx="65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Cal have two identit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50400" y="2274840"/>
            <a:ext cx="92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alks and acts like her black friend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ghbors when she is with them, and she talk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cts more like the white people of Maycomb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e is with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086120" y="28288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iss Maudie think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le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992520" y="2550960"/>
            <a:ext cx="715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elieves they have the right to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ever they want to do as long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n’t bother anyone el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935280" y="282888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d lines in the cities grew long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in the country grew poor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864720" y="310500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urage according to Attic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762840" y="1905120"/>
            <a:ext cx="780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ifferent kind of cour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 physical courage like a man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un—courage is knowing you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t before you start but doing i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way because it is the right thing 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452960" y="2828880"/>
            <a:ext cx="68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in’t Company, Cal, he’s just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nningha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961080" y="3105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55560" y="2550960"/>
            <a:ext cx="78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ometimes the Bible in the h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one man is worse than a whiske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le in the hand of—oh, of your father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44232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887400" y="2274840"/>
            <a:ext cx="73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never really understand a pers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you consider things from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 of view … until you climb i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kin and walk around in it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821760" y="310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169280" y="2828880"/>
            <a:ext cx="68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 Finch is the same in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 as he is on the public street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42320" y="304812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613240" y="3105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978840" y="1905120"/>
            <a:ext cx="72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s don’t do one thing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music for us to enjoy.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eat up people’s gardens,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st in corncribs, they don’t do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 but sing their hearts out for 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’s why it’s a sin to kill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14600" y="2438280"/>
            <a:ext cx="751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inch is a small songbi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significance of the famil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name.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889560" y="2028960"/>
            <a:ext cx="736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nch family is vulnerabl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ut and Jem will b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ularly vulnerable due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ir innoce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0040" y="2514600"/>
            <a:ext cx="83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no hurry, for there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here to go, nothing to buy and 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ey to buy it with, nothing to s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side the boundaries of Maycomb Coun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505240" y="316872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878400" y="1996920"/>
            <a:ext cx="720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on would have regard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tent fury the disturbance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orth and South, as it left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dants stripped of every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their lan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162600" y="31050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nnah</cp:lastModifiedBy>
  <dcterms:modified xsi:type="dcterms:W3CDTF">2012-11-06T22:45:35Z</dcterms:modified>
  <cp:revision>25</cp:revision>
  <dc:subject/>
  <dc:title>Jeopardy</dc:title>
</cp:coreProperties>
</file>