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jeop.wav" ContentType="audio/x-wav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87CA-D77A-4015-A812-5F4FE38F4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0918-1A27-440C-A6CD-F597EE094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A08F-1F14-4062-8235-C88BDAA6C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6A86-0C73-4A03-96B2-0EE79F04B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A93A7-FFA6-46BC-A1A8-CFB2211DA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01352-3412-4EAF-A5E5-B01A0F4E0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CF5AC-7E0B-4E90-B87D-D0984DCFC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0E2E9-BEDB-4A8E-AD3D-B7DFDF07F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B783B-D052-4FDF-B0BA-EE7D8AEBA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24257-EE3B-434B-8F4A-9008543CF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28BA4-4EFA-4BF6-AC68-1A53051F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33C1-AB07-4902-B834-AAB7BF6CC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7AB86-5B46-46E0-B28B-9F0157ECF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0CF9D-B05A-4F24-A86A-EB9A9FA3D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22858-45DE-44B6-82B4-E2B5122BE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5E23F-8A7E-400C-8665-42700E53F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9077F-5FD9-47D3-A70A-8BC5293CE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DA5D-B9C5-4A30-831B-26713B6F4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3AB3-53CD-48A6-9EEA-E49DC50ED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DD55-035F-43F8-9B4F-C3C00FAE1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8463-C2DD-4983-9B48-D98B88BE5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20B0-9B38-4AB8-9D66-56577196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DC44-BE07-4F11-BA92-7677AAFEF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FEE9-3442-44B5-8422-4A141002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0E289-BC56-4B03-A873-843593A3F8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D19A3-AE38-429D-BAF8-B3AAEC6CE9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32.xml"/><Relationship Id="rId10" Type="http://schemas.openxmlformats.org/officeDocument/2006/relationships/slide" Target="slide22.xml"/><Relationship Id="rId11" Type="http://schemas.openxmlformats.org/officeDocument/2006/relationships/slide" Target="slide42.xml"/><Relationship Id="rId12" Type="http://schemas.openxmlformats.org/officeDocument/2006/relationships/slide" Target="slide14.xml"/><Relationship Id="rId13" Type="http://schemas.openxmlformats.org/officeDocument/2006/relationships/slide" Target="slide24.xml"/><Relationship Id="rId14" Type="http://schemas.openxmlformats.org/officeDocument/2006/relationships/slide" Target="slide34.xml"/><Relationship Id="rId15" Type="http://schemas.openxmlformats.org/officeDocument/2006/relationships/slide" Target="slide44.xml"/><Relationship Id="rId16" Type="http://schemas.openxmlformats.org/officeDocument/2006/relationships/slide" Target="slide16.xml"/><Relationship Id="rId17" Type="http://schemas.openxmlformats.org/officeDocument/2006/relationships/slide" Target="slide26.xml"/><Relationship Id="rId18" Type="http://schemas.openxmlformats.org/officeDocument/2006/relationships/slide" Target="slide36.xml"/><Relationship Id="rId19" Type="http://schemas.openxmlformats.org/officeDocument/2006/relationships/slide" Target="slide46.xml"/><Relationship Id="rId20" Type="http://schemas.openxmlformats.org/officeDocument/2006/relationships/slide" Target="slide18.xml"/><Relationship Id="rId21" Type="http://schemas.openxmlformats.org/officeDocument/2006/relationships/slide" Target="slide28.xml"/><Relationship Id="rId22" Type="http://schemas.openxmlformats.org/officeDocument/2006/relationships/slide" Target="slide38.xml"/><Relationship Id="rId23" Type="http://schemas.openxmlformats.org/officeDocument/2006/relationships/slide" Target="slide48.xml"/><Relationship Id="rId24" Type="http://schemas.openxmlformats.org/officeDocument/2006/relationships/slide" Target="slide20.xml"/><Relationship Id="rId25" Type="http://schemas.openxmlformats.org/officeDocument/2006/relationships/slide" Target="slide30.xml"/><Relationship Id="rId26" Type="http://schemas.openxmlformats.org/officeDocument/2006/relationships/slide" Target="slide40.xml"/><Relationship Id="rId27" Type="http://schemas.openxmlformats.org/officeDocument/2006/relationships/slide" Target="slide50.xml"/><Relationship Id="rId28" Type="http://schemas.openxmlformats.org/officeDocument/2006/relationships/slide" Target="slide52.xml"/><Relationship Id="rId29" Type="http://schemas.openxmlformats.org/officeDocument/2006/relationships/audio" Target="../media/jeop.wav"/><Relationship Id="rId3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Times New Roman"/>
              </a:rPr>
              <a:t>Jeopardy</a:t>
            </a:r>
            <a:endParaRPr b="0" lang="en-US" sz="8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1" name="Object 3"/>
          <p:cNvGraphicFramePr/>
          <p:nvPr/>
        </p:nvGraphicFramePr>
        <p:xfrm>
          <a:off x="762120" y="1533600"/>
          <a:ext cx="7775280" cy="463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33600"/>
                    <a:ext cx="7775280" cy="46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Text Box 4"/>
          <p:cNvSpPr/>
          <p:nvPr/>
        </p:nvSpPr>
        <p:spPr>
          <a:xfrm>
            <a:off x="905400" y="175248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us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2362320" y="17524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3872160" y="175248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ca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5400000" y="175248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6848280" y="1752480"/>
            <a:ext cx="11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8402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900720" y="3241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90072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90072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900720" y="5527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Rectangle 15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16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17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18"/>
          <p:cNvSpPr/>
          <p:nvPr/>
        </p:nvSpPr>
        <p:spPr>
          <a:xfrm>
            <a:off x="70124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1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Rectangle 19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Rectangle 20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Rectangle 21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22"/>
          <p:cNvSpPr/>
          <p:nvPr/>
        </p:nvSpPr>
        <p:spPr>
          <a:xfrm>
            <a:off x="70124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5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23"/>
          <p:cNvSpPr/>
          <p:nvPr/>
        </p:nvSpPr>
        <p:spPr>
          <a:xfrm>
            <a:off x="25167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24"/>
          <p:cNvSpPr/>
          <p:nvPr/>
        </p:nvSpPr>
        <p:spPr>
          <a:xfrm>
            <a:off x="39646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7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25"/>
          <p:cNvSpPr/>
          <p:nvPr/>
        </p:nvSpPr>
        <p:spPr>
          <a:xfrm>
            <a:off x="554112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8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26"/>
          <p:cNvSpPr/>
          <p:nvPr/>
        </p:nvSpPr>
        <p:spPr>
          <a:xfrm>
            <a:off x="7012440" y="4038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9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27"/>
          <p:cNvSpPr/>
          <p:nvPr/>
        </p:nvSpPr>
        <p:spPr>
          <a:xfrm>
            <a:off x="25167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0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28"/>
          <p:cNvSpPr/>
          <p:nvPr/>
        </p:nvSpPr>
        <p:spPr>
          <a:xfrm>
            <a:off x="4040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1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29"/>
          <p:cNvSpPr/>
          <p:nvPr/>
        </p:nvSpPr>
        <p:spPr>
          <a:xfrm>
            <a:off x="556488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2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30"/>
          <p:cNvSpPr/>
          <p:nvPr/>
        </p:nvSpPr>
        <p:spPr>
          <a:xfrm>
            <a:off x="70124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3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31"/>
          <p:cNvSpPr/>
          <p:nvPr/>
        </p:nvSpPr>
        <p:spPr>
          <a:xfrm>
            <a:off x="251676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4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32"/>
          <p:cNvSpPr/>
          <p:nvPr/>
        </p:nvSpPr>
        <p:spPr>
          <a:xfrm>
            <a:off x="40406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5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33"/>
          <p:cNvSpPr/>
          <p:nvPr/>
        </p:nvSpPr>
        <p:spPr>
          <a:xfrm>
            <a:off x="556488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6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34"/>
          <p:cNvSpPr/>
          <p:nvPr/>
        </p:nvSpPr>
        <p:spPr>
          <a:xfrm>
            <a:off x="70124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47"/>
          <p:cNvSpPr/>
          <p:nvPr/>
        </p:nvSpPr>
        <p:spPr>
          <a:xfrm>
            <a:off x="6770160" y="6324480"/>
            <a:ext cx="1986840" cy="4597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8" action="ppaction://hlinksldjump"/>
              </a:rPr>
              <a:t>Final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je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Allus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4"/>
          <p:cNvSpPr/>
          <p:nvPr/>
        </p:nvSpPr>
        <p:spPr>
          <a:xfrm>
            <a:off x="427680" y="2828880"/>
            <a:ext cx="841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aycomb County had recently be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ld that it had nothing to fear but fear itself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Allus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4"/>
          <p:cNvSpPr/>
          <p:nvPr/>
        </p:nvSpPr>
        <p:spPr>
          <a:xfrm>
            <a:off x="1466280" y="2971800"/>
            <a:ext cx="621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DR’s 1932 inauguration speec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Them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977760" y="2550960"/>
            <a:ext cx="7188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sheriff hadn’t the heart to put hi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 jail alongside Negroes, so Boo w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ocked in the courthouse basemen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Them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4"/>
          <p:cNvSpPr/>
          <p:nvPr/>
        </p:nvSpPr>
        <p:spPr>
          <a:xfrm>
            <a:off x="3796560" y="3105000"/>
            <a:ext cx="155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acis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Them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4"/>
          <p:cNvSpPr/>
          <p:nvPr/>
        </p:nvSpPr>
        <p:spPr>
          <a:xfrm>
            <a:off x="192960" y="2828880"/>
            <a:ext cx="875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jury couldn’t possibly be expected to tak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m Robinson’s word against the Ewells’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Them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4"/>
          <p:cNvSpPr/>
          <p:nvPr/>
        </p:nvSpPr>
        <p:spPr>
          <a:xfrm>
            <a:off x="3796560" y="3105000"/>
            <a:ext cx="155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acis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Them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4"/>
          <p:cNvSpPr/>
          <p:nvPr/>
        </p:nvSpPr>
        <p:spPr>
          <a:xfrm>
            <a:off x="1348200" y="2828880"/>
            <a:ext cx="644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t was the first time I ever walke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way from a figh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Them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4"/>
          <p:cNvSpPr/>
          <p:nvPr/>
        </p:nvSpPr>
        <p:spPr>
          <a:xfrm>
            <a:off x="3123720" y="3105000"/>
            <a:ext cx="289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ming of a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Them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4"/>
          <p:cNvSpPr/>
          <p:nvPr/>
        </p:nvSpPr>
        <p:spPr>
          <a:xfrm>
            <a:off x="934560" y="2828880"/>
            <a:ext cx="727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w do the children react to Atticus’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idden identit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Them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2988000" y="3168720"/>
            <a:ext cx="289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ming of a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Allus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267840" y="2828880"/>
            <a:ext cx="860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Cunninghams are country folks, farmers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d the crash hit them hardes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Them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4"/>
          <p:cNvSpPr/>
          <p:nvPr/>
        </p:nvSpPr>
        <p:spPr>
          <a:xfrm>
            <a:off x="876960" y="2550960"/>
            <a:ext cx="7250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are some ways we see Scout a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Jem “part company”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Them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4"/>
          <p:cNvSpPr/>
          <p:nvPr/>
        </p:nvSpPr>
        <p:spPr>
          <a:xfrm>
            <a:off x="3123720" y="3105000"/>
            <a:ext cx="289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ming of a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Vocab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50400" y="2590920"/>
            <a:ext cx="9265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ntil Jem and Dill excluded me from their plans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he was only another lady in the neighborhood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ut a relatively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enign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presenc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Vocab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4"/>
          <p:cNvSpPr/>
          <p:nvPr/>
        </p:nvSpPr>
        <p:spPr>
          <a:xfrm>
            <a:off x="3678840" y="3009960"/>
            <a:ext cx="180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armles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Vocab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4"/>
          <p:cNvSpPr/>
          <p:nvPr/>
        </p:nvSpPr>
        <p:spPr>
          <a:xfrm>
            <a:off x="717120" y="2550960"/>
            <a:ext cx="804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 wasn’t sure what Jem resented most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ut I took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mbrag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at Mrs. Dubose’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ssessment of the family’s mental hygien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Vocab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4"/>
          <p:cNvSpPr/>
          <p:nvPr/>
        </p:nvSpPr>
        <p:spPr>
          <a:xfrm>
            <a:off x="3808800" y="310500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ffen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Vocab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4"/>
          <p:cNvSpPr/>
          <p:nvPr/>
        </p:nvSpPr>
        <p:spPr>
          <a:xfrm>
            <a:off x="927720" y="2325600"/>
            <a:ext cx="7288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he married a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aciturn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man who sp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ost of his time lying in a hammock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y the river wondering if his trot-line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re full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Vocab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4"/>
          <p:cNvSpPr/>
          <p:nvPr/>
        </p:nvSpPr>
        <p:spPr>
          <a:xfrm>
            <a:off x="4101480" y="3105000"/>
            <a:ext cx="94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az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Vocab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4"/>
          <p:cNvSpPr/>
          <p:nvPr/>
        </p:nvSpPr>
        <p:spPr>
          <a:xfrm>
            <a:off x="864720" y="2133720"/>
            <a:ext cx="7352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he was a less than satisfactory sourc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f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alliation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, but she did give Jem 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t biscuit-and-butter which he to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 half and shared with m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Vocab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4"/>
          <p:cNvSpPr/>
          <p:nvPr/>
        </p:nvSpPr>
        <p:spPr>
          <a:xfrm>
            <a:off x="3999960" y="3105000"/>
            <a:ext cx="11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lie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Allus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4"/>
          <p:cNvSpPr/>
          <p:nvPr/>
        </p:nvSpPr>
        <p:spPr>
          <a:xfrm>
            <a:off x="2730600" y="3105000"/>
            <a:ext cx="368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ock market cras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Vocab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9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4"/>
          <p:cNvSpPr/>
          <p:nvPr/>
        </p:nvSpPr>
        <p:spPr>
          <a:xfrm>
            <a:off x="961200" y="2274840"/>
            <a:ext cx="7221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n it healed, and Jem’s fears of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ever being able to play football wer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ssuaged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, he was seldom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lf-conscious about his injur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Vocab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4"/>
          <p:cNvSpPr/>
          <p:nvPr/>
        </p:nvSpPr>
        <p:spPr>
          <a:xfrm>
            <a:off x="3720240" y="3105000"/>
            <a:ext cx="170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atisfi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Re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5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4"/>
          <p:cNvSpPr/>
          <p:nvPr/>
        </p:nvSpPr>
        <p:spPr>
          <a:xfrm>
            <a:off x="1780920" y="2828880"/>
            <a:ext cx="6147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w is Scout different from he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assmate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Re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8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4"/>
          <p:cNvSpPr/>
          <p:nvPr/>
        </p:nvSpPr>
        <p:spPr>
          <a:xfrm>
            <a:off x="276840" y="1593720"/>
            <a:ext cx="8821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cout already has more education than he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assmates. Her life is not as hard as those of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r classmates, and she has the luxury of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aving a professional father who i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l-educated. She is interested in learning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re her classmates are more concerned with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lping their families survive and where thei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ext meal will come fro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Re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1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4"/>
          <p:cNvSpPr/>
          <p:nvPr/>
        </p:nvSpPr>
        <p:spPr>
          <a:xfrm>
            <a:off x="431280" y="3105000"/>
            <a:ext cx="830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y didn’t the Ewells have to go to school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Re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4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4"/>
          <p:cNvSpPr/>
          <p:nvPr/>
        </p:nvSpPr>
        <p:spPr>
          <a:xfrm>
            <a:off x="29160" y="1523880"/>
            <a:ext cx="8782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f the truant officer enforced the law, their da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ould probably go to jail. As bad as thing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re for the Ewell children, they likely woul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ave been even worse off without their father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ecause their home life was so unusual,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uthorities bent the rules for them (such a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unting out of season)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Re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7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4"/>
          <p:cNvSpPr/>
          <p:nvPr/>
        </p:nvSpPr>
        <p:spPr>
          <a:xfrm>
            <a:off x="1101600" y="3105000"/>
            <a:ext cx="65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w does Cal have two identitie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Re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0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4"/>
          <p:cNvSpPr/>
          <p:nvPr/>
        </p:nvSpPr>
        <p:spPr>
          <a:xfrm>
            <a:off x="50400" y="2274840"/>
            <a:ext cx="9227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he talks and acts like her black friends an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eighbors when she is with them, and she talk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d acts more like the white people of Maycomb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n she is with the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Re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3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4"/>
          <p:cNvSpPr/>
          <p:nvPr/>
        </p:nvSpPr>
        <p:spPr>
          <a:xfrm>
            <a:off x="1086120" y="2828880"/>
            <a:ext cx="697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does Miss Maudie think of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adley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Re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4"/>
          <p:cNvSpPr/>
          <p:nvPr/>
        </p:nvSpPr>
        <p:spPr>
          <a:xfrm>
            <a:off x="992520" y="2550960"/>
            <a:ext cx="7158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he believes they have the right to d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ever they want to do as long a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y don’t bother anyone els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Allus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4"/>
          <p:cNvSpPr/>
          <p:nvPr/>
        </p:nvSpPr>
        <p:spPr>
          <a:xfrm>
            <a:off x="935280" y="2828880"/>
            <a:ext cx="727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read lines in the cities grew longer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eople in the country grew poor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Re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9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4"/>
          <p:cNvSpPr/>
          <p:nvPr/>
        </p:nvSpPr>
        <p:spPr>
          <a:xfrm>
            <a:off x="864720" y="3105000"/>
            <a:ext cx="717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courage according to Atticu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Re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4"/>
          <p:cNvSpPr/>
          <p:nvPr/>
        </p:nvSpPr>
        <p:spPr>
          <a:xfrm>
            <a:off x="762840" y="1905120"/>
            <a:ext cx="7806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re is a different kind of courag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an physical courage like a man with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gun—courage is knowing you a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eat before you start but doing i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yway because it is the right thing to d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Quot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5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4"/>
          <p:cNvSpPr/>
          <p:nvPr/>
        </p:nvSpPr>
        <p:spPr>
          <a:xfrm>
            <a:off x="1452960" y="2828880"/>
            <a:ext cx="681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 ain’t Company, Cal, he’s just a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unningham.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Quot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8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4"/>
          <p:cNvSpPr/>
          <p:nvPr/>
        </p:nvSpPr>
        <p:spPr>
          <a:xfrm>
            <a:off x="3961080" y="3105000"/>
            <a:ext cx="122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cou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Quot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1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4"/>
          <p:cNvSpPr/>
          <p:nvPr/>
        </p:nvSpPr>
        <p:spPr>
          <a:xfrm>
            <a:off x="655560" y="2550960"/>
            <a:ext cx="7832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“…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ut sometimes the Bible in the han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f one man is worse than a whiskey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ottle in the hand of—oh, of your father.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Quot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4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4"/>
          <p:cNvSpPr/>
          <p:nvPr/>
        </p:nvSpPr>
        <p:spPr>
          <a:xfrm>
            <a:off x="3442320" y="3105000"/>
            <a:ext cx="258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ss Maudi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Quot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7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4"/>
          <p:cNvSpPr/>
          <p:nvPr/>
        </p:nvSpPr>
        <p:spPr>
          <a:xfrm>
            <a:off x="887400" y="2274840"/>
            <a:ext cx="7338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 never really understand a person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ntil you consider things from hi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int of view … until you climb int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is skin and walk around in it.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Quot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0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4"/>
          <p:cNvSpPr/>
          <p:nvPr/>
        </p:nvSpPr>
        <p:spPr>
          <a:xfrm>
            <a:off x="3821760" y="3105000"/>
            <a:ext cx="15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tticu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Quot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3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4"/>
          <p:cNvSpPr/>
          <p:nvPr/>
        </p:nvSpPr>
        <p:spPr>
          <a:xfrm>
            <a:off x="1169280" y="2828880"/>
            <a:ext cx="68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tticus Finch is the same in hi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use as he is on the public streets.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Quot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4"/>
          <p:cNvSpPr/>
          <p:nvPr/>
        </p:nvSpPr>
        <p:spPr>
          <a:xfrm>
            <a:off x="3442320" y="3048120"/>
            <a:ext cx="258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ss Maudi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Allus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4"/>
          <p:cNvSpPr/>
          <p:nvPr/>
        </p:nvSpPr>
        <p:spPr>
          <a:xfrm>
            <a:off x="2613240" y="3105000"/>
            <a:ext cx="419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Great Depress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Quot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9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4"/>
          <p:cNvSpPr/>
          <p:nvPr/>
        </p:nvSpPr>
        <p:spPr>
          <a:xfrm>
            <a:off x="978840" y="1905120"/>
            <a:ext cx="7238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ockingbirds don’t do one thing bu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ake music for us to enjoy. The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on’t eat up people’s gardens, don’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est in corncribs, they don’t do on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ng but sing their hearts out for us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at’s why it’s a sin to kill 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ockingbird.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Quot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4"/>
          <p:cNvSpPr/>
          <p:nvPr/>
        </p:nvSpPr>
        <p:spPr>
          <a:xfrm>
            <a:off x="3366360" y="3105000"/>
            <a:ext cx="258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ss Maudi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714600" y="2438280"/>
            <a:ext cx="7512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finch is a small songbir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xplain the significance of the family’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ast name.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final_Q.wav" descr=""/>
          <p:cNvPicPr/>
          <p:nvPr/>
        </p:nvPicPr>
        <p:blipFill>
          <a:blip r:embed="rId1"/>
          <a:stretch/>
        </p:blipFill>
        <p:spPr>
          <a:xfrm>
            <a:off x="746748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5" descr="m_button"/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49" nodeType="clickEffect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1" fill="hold"/>
                                        <p:tgtEl>
                                          <p:spTgt spid="2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 Answer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889560" y="2028960"/>
            <a:ext cx="7364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Finch family is vulnerable.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cout and Jem will be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articularly vulnerable due t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ir innocenc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0" name="Picture 4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Allus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"/>
          <p:cNvSpPr/>
          <p:nvPr/>
        </p:nvSpPr>
        <p:spPr>
          <a:xfrm>
            <a:off x="410040" y="2514600"/>
            <a:ext cx="8329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re was no hurry, for there wa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owhere to go, nothing to buy and n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oney to buy it with, nothing to se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utside the boundaries of Maycomb Count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Allus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4"/>
          <p:cNvSpPr/>
          <p:nvPr/>
        </p:nvSpPr>
        <p:spPr>
          <a:xfrm>
            <a:off x="2505240" y="3168720"/>
            <a:ext cx="419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Great Depress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Allus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4"/>
          <p:cNvSpPr/>
          <p:nvPr/>
        </p:nvSpPr>
        <p:spPr>
          <a:xfrm>
            <a:off x="878400" y="1996920"/>
            <a:ext cx="7209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imon would have regarded with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mpotent fury the disturbance betwe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North and South, as it left hi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escendants stripped of everything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ut their land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Allus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3162600" y="3105000"/>
            <a:ext cx="281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Civil Wa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7T14:16:32Z</dcterms:created>
  <dc:creator>SCPS</dc:creator>
  <dc:description/>
  <dc:language>en-US</dc:language>
  <cp:lastModifiedBy>Hannah</cp:lastModifiedBy>
  <dcterms:modified xsi:type="dcterms:W3CDTF">2012-11-06T22:45:35Z</dcterms:modified>
  <cp:revision>25</cp:revision>
  <dc:subject/>
  <dc:title>Jeopardy</dc:title>
</cp:coreProperties>
</file>